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93DF-7774-45A8-9D25-DA758130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6CD9-8FDD-474C-94A5-098A6A05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823-60C3-4E39-9030-23F030D7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1784-4949-4A49-9122-8958D14A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3527-608E-4D6D-B985-78ACA4BC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1A5A-E2D2-4B1C-88AC-83947059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823D-033A-4359-B4F3-52F74742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E6E0-FA8F-4A3A-B92F-C91C9E91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5FDF-B4D5-4EA6-B6AE-2932C1D3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7CDE-596B-4FED-9944-1497A22A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B053-E64B-4E18-BD68-C92DEE9B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5F50-450B-47E6-BA3A-D86FD75F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E45E-8561-4634-99FB-05CF6C78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CAB5-26F7-4D9D-BEE9-C363DF89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D62F-DDEF-461C-A66C-0E62B75F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635F-8AF9-450B-A11F-4464D46F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BA39-5096-478F-9FEC-0BE02C6D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9E27-B337-47FF-AEF3-252CF71B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F59-4117-4E92-8EE2-F0E0555E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4A35-4F17-4DBE-81E0-AFAD3E6C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2BD-4342-497B-985A-243378DD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6544-64B0-4B86-B4CA-6FB13681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4B61-DAAD-4184-91DB-E2355BBE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7044-A7C3-4DE1-A765-EEED705C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1825-C9A9-4383-8615-C2B3CFE0D22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16CD-46E8-483E-AF36-0DA47784E4C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200" spc="-1" strike="noStrike">
                <a:solidFill>
                  <a:srgbClr val="006666"/>
                </a:solidFill>
                <a:latin typeface="Verdana"/>
              </a:rPr>
              <a:t>Превенција ургентних стања у стоматологији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6699"/>
                </a:solidFill>
                <a:latin typeface="Verdana"/>
              </a:rPr>
              <a:t>Доц др Татјана Вуловић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Седација се може постић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Медикаментозно(фармакоседација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Психолишки(јатроседација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66"/>
                </a:solidFill>
                <a:latin typeface="Verdana"/>
              </a:rPr>
              <a:t>ЈАТРОСЕДАЦИЈ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Процес ослобађања од страха и тескобе путем одговарајућег опхођења лекар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Циљ: да се омогући максимална комуникација са пацијентом ради отклањања сраха и бојазност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Са пацијентом се успоставља контакт, стиче се његово поверење и умањује стра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Отклањање или смањење потребе за медикаментозном терапијо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66"/>
                </a:solidFill>
                <a:latin typeface="Verdana"/>
              </a:rPr>
              <a:t>МЕДИКАМЕНТОЗНА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Примена медикамената ради постизања седациј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ЦИЉ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Да смањи напетост и страх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Да обезбеди аналгезиј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Да смањи рефлексну надражљивос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Да инхибира секрецију пљувачних жлезд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Да обезбеди да пацијент добије лекове који су му потребни ради лечења његове хроничне болести, , алергие, или периоперативне инфекциј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66"/>
                </a:solidFill>
                <a:latin typeface="Verdana"/>
              </a:rPr>
              <a:t>Технике седациј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Могу се примењивати различити путеви уношења ле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Оралн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Интрамускуларн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Интравенс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Инхалационо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66"/>
                </a:solidFill>
                <a:latin typeface="Verdana"/>
              </a:rPr>
              <a:t>Латентни период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време које протекне од примене лека до првих знакова његовог ефект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66"/>
                </a:solidFill>
                <a:latin typeface="Verdana"/>
              </a:rPr>
              <a:t>Интравенска седациј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ИВ начин је најпогодниј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Веома брз, готово моменталан ефека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Доза лека се може прецизно контролисати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Опасност од предозирања је мал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Могућност додавања седатив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Период опоравка је сразмерно кратак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66"/>
                </a:solidFill>
                <a:latin typeface="Verdana"/>
              </a:rPr>
              <a:t>Погодности за пацијен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Смањене физиолошког стрес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Мотивациј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Потпуно уклањање неконтролисаног страх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Брз опоравак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66"/>
                </a:solidFill>
                <a:latin typeface="Verdana"/>
              </a:rPr>
              <a:t>Погодности за лекар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Успостављање комуникације и поверењ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Олакшано извођење интервенциј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Адекватније искоришћено радно врем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Завидан социомедицински значај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66"/>
                </a:solidFill>
                <a:latin typeface="Verdana"/>
              </a:rPr>
              <a:t>Бензодиазепини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Представљају најпопуларнија средства за седациј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У зависности од дозе изазивају: транквилизацију; седацију; сомноленцију; или губитак свест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Стандардни бензодиазепин је диазепам ( valium, apaurin, bensedin 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Други бензодиазепини су лоразепам      (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oram, Lorsilan, Tavor</a:t>
            </a: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Мидазолам (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lormidal, Dormikum</a:t>
            </a: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Предност им је што релативно брзо делуј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Минималан учинка на КВС И РС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Добар амнезички ефека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Антероградна амнезиј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Ургентна стања која се јављају у току стоматолошких интервенција изискују хитне мере КПР-а и правовремено давање лекова, могу се сврстати у неколико груп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Поремећаји КВС (срчани застој, аритмије...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Поремећаји РС ( напад астме, анафилактићки шок, апнеа..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Поремећаји ЦНС ( вазовагална синкопа, конвулзије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Поремећаји ендокриног система (акутна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инсуфицијенција надбубрега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66cc"/>
                </a:solidFill>
                <a:latin typeface="Verdana"/>
              </a:rPr>
              <a:t>Мидазолам </a:t>
            </a: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најпогоднији  за амбулантну седациј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Снажнији од диазепама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Дејство наступа брже и траје краћ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Метаболити су неактивн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Поседује типична фармаколошка својства ове групе: хипнотичко деловање, анксиолизу, мишићну релаксацију, антиконвулзивно деловање, амнезију и седациј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1600200"/>
          <a:ext cx="8229240" cy="4455360"/>
        </p:xfrm>
        <a:graphic>
          <a:graphicData uri="http://schemas.openxmlformats.org/drawingml/2006/table">
            <a:tbl>
              <a:tblPr/>
              <a:tblGrid>
                <a:gridCol w="2057040"/>
                <a:gridCol w="2057400"/>
                <a:gridCol w="2057400"/>
                <a:gridCol w="2057400"/>
              </a:tblGrid>
              <a:tr h="121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редство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имен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Начин коришћењ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дозе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Diazepam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Premedikacij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Sedacij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per o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0,2 </a:t>
                      </a:r>
                      <a:r>
                        <a:rPr b="0" lang="pt-BR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0" lang="sr-C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/ </a:t>
                      </a:r>
                      <a:r>
                        <a:rPr b="0" lang="pt-BR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kg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0,04-0.2 </a:t>
                      </a:r>
                      <a:r>
                        <a:rPr b="0" lang="pt-BR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0" lang="sr-C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pt-BR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kg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Midazolam</a:t>
                      </a:r>
                      <a:r>
                        <a:rPr b="0" lang="sr-C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Premedikacij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Sedacij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im</a:t>
                      </a:r>
                      <a:r>
                        <a:rPr b="0" lang="sr-C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sr-C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0,07-0,15</a:t>
                      </a:r>
                      <a:r>
                        <a:rPr b="0" lang="pt-BR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0" lang="sr-C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pt-BR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kg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0,01-0,1 </a:t>
                      </a:r>
                      <a:r>
                        <a:rPr b="0" lang="pt-BR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0" lang="sr-C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pt-BR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kg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Lorazepam  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Premedikacij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Sedacija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per os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0,03-0,04 mg/kg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0,05 mg/kg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Постоје многобројне технике седациј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Основном се могу сматрати примена само једног средства седације МОНОСЕДАЦИЈ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66"/>
                </a:solidFill>
                <a:latin typeface="Verdana"/>
              </a:rPr>
              <a:t>ЈОРГЕСОНОВА техни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Комбинација три медикамента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Пентобарбитона(седација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меперидина (аналгезија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Скополамина(антисијалогни ефекат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99"/>
                </a:solidFill>
                <a:latin typeface="Verdana"/>
              </a:rPr>
              <a:t>Flumazenil (Aneksat) специфичан антагонист бен</a:t>
            </a: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з</a:t>
            </a:r>
            <a:r>
              <a:rPr b="0" lang="pt-BR" sz="3200" spc="-1" strike="noStrike">
                <a:solidFill>
                  <a:srgbClr val="006699"/>
                </a:solidFill>
                <a:latin typeface="Verdana"/>
              </a:rPr>
              <a:t>одиазепин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Уобичајена доза </a:t>
            </a:r>
            <a:r>
              <a:rPr b="0" lang="pt-BR" sz="3200" spc="-1" strike="noStrike">
                <a:solidFill>
                  <a:srgbClr val="006699"/>
                </a:solidFill>
                <a:latin typeface="Verdana"/>
              </a:rPr>
              <a:t>0,3- 0,6 mg iv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Дозирање лека знакова је у великој мери индивидуално, процена се врши на основу специфичних показатеља нивоа седације: првих кортикалних знакова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и тзв. Верилвог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( Verrill) </a:t>
            </a: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зна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Први кортикални знаци су поспаност, вртоглавица, нејасан вид, неразговетан и успорен говор, осећај лебдења..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Верилов знак је крајњи домен свесне седације, дефинише се као птоза горњег очног капка до половине зениц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Даље додавање лекова би могло да изазове губитак све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66"/>
                </a:solidFill>
                <a:latin typeface="Verdana"/>
              </a:rPr>
              <a:t>Антихолинергици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Користе се у циљу смањења саливације и секреције у дисајним путеви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Корекцију вагусне брадикардиј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Најчешће се користи атропин и скополамин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Њихов ефекат се заснива на компетативном антагонизму на постганглијским рецепторима парасимпатичног нервног систе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Скополамин испољава већи ефекат на пљувачне жлезде (антисијалогни ефекат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Атрпин има већи ефекат на срце и бронхијалну мускулатур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tropin 0,5 – 1 m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kopolamin 0,3-0,6 m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66"/>
                </a:solidFill>
                <a:latin typeface="Verdana"/>
              </a:rPr>
              <a:t>Аналгетиц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Меперидин (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etidin, Dolantin)</a:t>
            </a: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 је синтетички наркотик који се користи у појединим  техникама седациј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Користи се у дози од 5-10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g</a:t>
            </a: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 до постизања жељеног ефекта седациј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ax </a:t>
            </a: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дозвољена доза у склопу свесне седације је до 50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g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entanil</a:t>
            </a: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 је синтетички аналгетик-наркотик, потентнији од морфина, примена није препоручљивљ уколико особље није обучено за реанимацију. Изазива снажну респираторну депресију и захтева респираторну потпору. Његова примена у свесној седацији је дискутабилн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66"/>
                </a:solidFill>
                <a:latin typeface="Verdana"/>
              </a:rPr>
              <a:t>МОНИТОРИН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Праћење стања пацијента виталних функциј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Крвни притисак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У рутинском раду користи се неинвазиван метод аускултаторног и осцилометриско мерења Т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Прате се промене ТА у одређеном временском интервалу у току интервенциј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У односу на почетну вреднос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66"/>
                </a:solidFill>
                <a:latin typeface="Verdana"/>
              </a:rPr>
              <a:t>Пулс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Метода најједноставнијег мониторинга и изводи се палпацијом неке од перифрних артериј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У садашње времену у употреби су дигитални плетизмографи којима се пулс врло једноставно и прецизно мер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66"/>
                </a:solidFill>
                <a:latin typeface="Verdana"/>
              </a:rPr>
              <a:t>Психичка припрема пацијен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Бол и екстреман страх од стоматолога је најчешћи узрок избегавања стоматолошких услуг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66"/>
                </a:solidFill>
                <a:latin typeface="Verdana"/>
              </a:rPr>
              <a:t>Дисањ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Прати се дубина  фреквенција и ритам дисања без обзира на врсту анестезиј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Дисање је услов да се пацијент безбедно преброди цео поступак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Дисања семоже  успешно проценити на основу сатурације крви кисеоником а очитава се са пулсног оксиметр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Процена губитка крвног волумена је такође веома битан део мониторинга  у току интервенциј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Пратимо количину крви у аспиратору као и процену губитка на основу натопљених газа или тампона који сакупљају крв из оперативног пољ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66"/>
                </a:solidFill>
                <a:latin typeface="Verdana"/>
              </a:rPr>
              <a:t>Медицинско-правни аспекат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99"/>
                </a:solidFill>
                <a:latin typeface="Verdana"/>
              </a:rPr>
              <a:t>Сваки здравствени радник одговоран је за поступке према пацијенту; зато је реално очекивати да ће у пракси примењивати само поступке и технике које детаљно познаје, те да ће бити способан да реши евентуалне компликације које из предузетог поступка могу проистећ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Основне технике ив седације са применом бензодиазепина сразмерно су безбедне а опасност од предозирања је минималн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Разлог томе је да се у земљама са развијеном здравственом заштитом ОСНОВНЕ технике примењују стоматолози којин су посебно обучени  за извођење ових техни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Обука подразумева теоријско и практично усавршавање, на посебно организованим курсевима или семинари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Пресудна је и улога опреме и услова за безбедно извођење процедур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6699"/>
                </a:solidFill>
                <a:latin typeface="Verdana"/>
              </a:rPr>
              <a:t>Компликације, па и смртни исход, које настају из нехата или пропуста у раду  предмет су судског разматрањ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6699"/>
                </a:solidFill>
                <a:latin typeface="Verdana"/>
              </a:rPr>
              <a:t>Најчешће се ови пропусти испољавају ка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6699"/>
                </a:solidFill>
                <a:latin typeface="Verdana"/>
              </a:rPr>
              <a:t>Неадекватна преоперативна процена здравственог стања пацијент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6699"/>
                </a:solidFill>
                <a:latin typeface="Verdana"/>
              </a:rPr>
              <a:t>Неадекватан мониторинг у току седациј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6699"/>
                </a:solidFill>
                <a:latin typeface="Verdana"/>
              </a:rPr>
              <a:t>Непознавање фармаколошких својстава примењених супстанциј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6699"/>
                </a:solidFill>
                <a:latin typeface="Verdana"/>
              </a:rPr>
              <a:t>Непрепознавање компликација опасних по живо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6699"/>
                </a:solidFill>
                <a:latin typeface="Verdana"/>
              </a:rPr>
              <a:t>Разумљиво је да је лекар  у случају појаве компликација оваквог карактра одговоран без обзира на специјалност и обученост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66"/>
                </a:solidFill>
                <a:latin typeface="Verdana"/>
              </a:rPr>
              <a:t>ЗЛАТНИ СТАНДАРД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ПРАВИ ПАЦИЈЕНТ на ПРАВОМ МЕСТУ  у  ПРАВИМ РУКАМ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Премедикација  у току интервенције има функцију отклањање бојазности и страха код пацијената и представља прави је начин превазилажења  могућих непријатно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Оптимални метод је седација уз истовремену примену локалне анестезиј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66"/>
                </a:solidFill>
                <a:latin typeface="Verdana"/>
              </a:rPr>
              <a:t>Избор навесених техника и оптималне методе контроле бола зависи од више фактор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Узраст и опште здравствено стање пацијент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Обима и врсте стоматолошке интервенциј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Жеље пацијент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Ставова, склоности и могућности лекар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66"/>
                </a:solidFill>
                <a:latin typeface="Verdana"/>
              </a:rPr>
              <a:t>Преглед пацијента пре седациј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Подразумева процену општег здравственог стања пацијент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Попуњавање упитни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Процена виталних функциј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Регистровање допунских анамнестичких подата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Постојање контраиндикација за дату процедур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Пацијент који се планира за ив седацију треба упозорити да дође у пратњи пунолетне особе, да следећа 24 сата не управља моторним возилом нити дугим апаратима, да не планира никакве послове за које је потребна концентрациј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После интервенције провести најмање 2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</a:t>
            </a: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 у дневној болници (амбуланти где се ради интервенција) а по потреби и дуж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Пожељно је да 6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</a:t>
            </a: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 пре заказане интервенције не узима храну и течност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Алкохолна пића неконзумирати најмањ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24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</a:t>
            </a:r>
            <a:r>
              <a:rPr b="0" lang="sr-CS" sz="2400" spc="-1" strike="noStrike">
                <a:solidFill>
                  <a:srgbClr val="006699"/>
                </a:solidFill>
                <a:latin typeface="Verdana"/>
              </a:rPr>
              <a:t> пре доласка на заказану операциј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66"/>
                </a:solidFill>
                <a:latin typeface="Verdana"/>
              </a:rPr>
              <a:t>ПОЈАМ СЕДАЦИЈ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Поступак примене лека или више лекова ради постизања одређеног стања депресије ЦНС у току кога је вербални контакт са пацијентом могућ пошто је свест очуван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66"/>
                </a:solidFill>
                <a:latin typeface="Verdana"/>
              </a:rPr>
              <a:t>Карактеристике свесне седациј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Свест пацијента је очуван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Пацијент вербално комуникатива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Има очуване одбрамбене рефлекс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6699"/>
                </a:solidFill>
                <a:latin typeface="Verdana"/>
              </a:rPr>
              <a:t>Способност одржавања дисајног пута и спонтаног дисањ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4:04:44Z</dcterms:created>
  <dc:creator>Info</dc:creator>
  <dc:description/>
  <dc:language>en-US</dc:language>
  <cp:lastModifiedBy>Info</cp:lastModifiedBy>
  <dcterms:modified xsi:type="dcterms:W3CDTF">2015-02-15T18:12:45Z</dcterms:modified>
  <cp:revision>21</cp:revision>
  <dc:subject/>
  <dc:title>Превенција ургентних стања у стоматологији</dc:title>
</cp:coreProperties>
</file>